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55E4B-BF16-473D-8FD0-3AD2B10441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9964-AE02-4F9E-A1A2-F1FFCE24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6528-1D57-4ACD-93F9-66FA6BA6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92BA-4D6B-470A-BC9B-675E4C9DBC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A276-554F-458E-BBCA-C42C9C77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818A-1B1F-4543-8374-4DB6A5AA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64D89-4712-41F1-B361-2438BF1D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1B41-01E1-494F-9E0E-CAAA50E7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99EC4-121E-484C-A198-B84FC703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9B0BE-740D-4F2D-8C1E-4891E5DB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8AB3-9545-48FF-B90D-A9BFC72F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4EFE7-70D9-42E2-95B5-5102FC23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CC55-EDC6-42D5-8317-D54FF5E6A6C0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 14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bability &amp; Genet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48520" y="3808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0" t="2252" r="0" b="0"/>
          <a:stretch/>
        </p:blipFill>
        <p:spPr>
          <a:xfrm>
            <a:off x="152280" y="4232160"/>
            <a:ext cx="3581640" cy="2625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DD7C-A7E8-4FEF-A06E-8ACA14517A2A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597C-503B-4B30-A80E-441FAD55D9A0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etics &amp; Probabil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5867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endel’s laws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gregation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dependent assortment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flect same laws of probability that apply to tossing coins or rolling dic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95480" y="4572000"/>
            <a:ext cx="3762360" cy="2127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962760" y="457200"/>
            <a:ext cx="1876320" cy="389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8D03-DE0C-4580-8621-8D728AF84830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bability &amp; genet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533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lculating probability of making a specific gamete is just like calculating the probability in flipping a coi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bability of tossing heads?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50%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bability making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gamete…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248520" y="4267080"/>
            <a:ext cx="2049480" cy="1752480"/>
            <a:chOff x="6248520" y="4267080"/>
            <a:chExt cx="2049480" cy="1752480"/>
          </a:xfrm>
        </p:grpSpPr>
        <p:grpSp>
          <p:nvGrpSpPr>
            <p:cNvPr id="109" name=""/>
            <p:cNvGrpSpPr/>
            <p:nvPr/>
          </p:nvGrpSpPr>
          <p:grpSpPr>
            <a:xfrm>
              <a:off x="6248520" y="4763880"/>
              <a:ext cx="838080" cy="838080"/>
              <a:chOff x="6248520" y="4763880"/>
              <a:chExt cx="838080" cy="838080"/>
            </a:xfrm>
          </p:grpSpPr>
          <p:sp>
            <p:nvSpPr>
              <p:cNvPr id="110" name=""/>
              <p:cNvSpPr/>
              <p:nvPr/>
            </p:nvSpPr>
            <p:spPr>
              <a:xfrm>
                <a:off x="6248520" y="476388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325920" y="4915440"/>
                <a:ext cx="689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7688520" y="4267080"/>
              <a:ext cx="609480" cy="609480"/>
              <a:chOff x="7688520" y="4267080"/>
              <a:chExt cx="609480" cy="609480"/>
            </a:xfrm>
          </p:grpSpPr>
          <p:sp>
            <p:nvSpPr>
              <p:cNvPr id="113" name=""/>
              <p:cNvSpPr/>
              <p:nvPr/>
            </p:nvSpPr>
            <p:spPr>
              <a:xfrm>
                <a:off x="7688520" y="426708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775640" y="429624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688520" y="5410080"/>
              <a:ext cx="609480" cy="609480"/>
              <a:chOff x="7688520" y="5410080"/>
              <a:chExt cx="609480" cy="609480"/>
            </a:xfrm>
          </p:grpSpPr>
          <p:sp>
            <p:nvSpPr>
              <p:cNvPr id="116" name=""/>
              <p:cNvSpPr/>
              <p:nvPr/>
            </p:nvSpPr>
            <p:spPr>
              <a:xfrm>
                <a:off x="7688520" y="541008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775640" y="543924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rot="1800000">
              <a:off x="7078320" y="533376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19800000">
              <a:off x="7078320" y="480024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248520" y="1676520"/>
            <a:ext cx="2049480" cy="1752480"/>
            <a:chOff x="6248520" y="1676520"/>
            <a:chExt cx="2049480" cy="1752480"/>
          </a:xfrm>
        </p:grpSpPr>
        <p:grpSp>
          <p:nvGrpSpPr>
            <p:cNvPr id="121" name=""/>
            <p:cNvGrpSpPr/>
            <p:nvPr/>
          </p:nvGrpSpPr>
          <p:grpSpPr>
            <a:xfrm>
              <a:off x="6248520" y="2173320"/>
              <a:ext cx="838080" cy="838080"/>
              <a:chOff x="6248520" y="2173320"/>
              <a:chExt cx="838080" cy="838080"/>
            </a:xfrm>
          </p:grpSpPr>
          <p:sp>
            <p:nvSpPr>
              <p:cNvPr id="122" name=""/>
              <p:cNvSpPr/>
              <p:nvPr/>
            </p:nvSpPr>
            <p:spPr>
              <a:xfrm>
                <a:off x="6248520" y="21733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335640" y="232488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7688520" y="1676520"/>
              <a:ext cx="609480" cy="609480"/>
              <a:chOff x="7688520" y="1676520"/>
              <a:chExt cx="609480" cy="609480"/>
            </a:xfrm>
          </p:grpSpPr>
          <p:sp>
            <p:nvSpPr>
              <p:cNvPr id="125" name=""/>
              <p:cNvSpPr/>
              <p:nvPr/>
            </p:nvSpPr>
            <p:spPr>
              <a:xfrm>
                <a:off x="7688520" y="167652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775640" y="170568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688520" y="2819520"/>
              <a:ext cx="609480" cy="609480"/>
              <a:chOff x="7688520" y="2819520"/>
              <a:chExt cx="609480" cy="609480"/>
            </a:xfrm>
          </p:grpSpPr>
          <p:sp>
            <p:nvSpPr>
              <p:cNvPr id="128" name=""/>
              <p:cNvSpPr/>
              <p:nvPr/>
            </p:nvSpPr>
            <p:spPr>
              <a:xfrm>
                <a:off x="7688520" y="281952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785360" y="284868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 rot="1800000">
              <a:off x="7078320" y="274320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 rot="19800000">
              <a:off x="7078320" y="220968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8199360" y="2329920"/>
            <a:ext cx="942840" cy="4136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50%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87320" y="4952520"/>
            <a:ext cx="1154520" cy="4136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00%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39B6-EE9C-40C1-93CF-B321EE8FF6DA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bability &amp; genet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632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utcome of 1 toss has no impact on the outcome of the next tos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bability of tossing heads each time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bability making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gamete each time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934320" y="4343400"/>
            <a:ext cx="2049480" cy="1752480"/>
            <a:chOff x="6934320" y="4343400"/>
            <a:chExt cx="2049480" cy="1752480"/>
          </a:xfrm>
        </p:grpSpPr>
        <p:grpSp>
          <p:nvGrpSpPr>
            <p:cNvPr id="138" name=""/>
            <p:cNvGrpSpPr/>
            <p:nvPr/>
          </p:nvGrpSpPr>
          <p:grpSpPr>
            <a:xfrm>
              <a:off x="6934320" y="4840200"/>
              <a:ext cx="838080" cy="838080"/>
              <a:chOff x="6934320" y="4840200"/>
              <a:chExt cx="838080" cy="838080"/>
            </a:xfrm>
          </p:grpSpPr>
          <p:sp>
            <p:nvSpPr>
              <p:cNvPr id="139" name=""/>
              <p:cNvSpPr/>
              <p:nvPr/>
            </p:nvSpPr>
            <p:spPr>
              <a:xfrm>
                <a:off x="6934320" y="484020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021440" y="499176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8374320" y="4343400"/>
              <a:ext cx="609480" cy="609480"/>
              <a:chOff x="8374320" y="4343400"/>
              <a:chExt cx="609480" cy="609480"/>
            </a:xfrm>
          </p:grpSpPr>
          <p:sp>
            <p:nvSpPr>
              <p:cNvPr id="142" name=""/>
              <p:cNvSpPr/>
              <p:nvPr/>
            </p:nvSpPr>
            <p:spPr>
              <a:xfrm>
                <a:off x="8374320" y="434340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461440" y="437256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8374320" y="5486400"/>
              <a:ext cx="609480" cy="609480"/>
              <a:chOff x="8374320" y="5486400"/>
              <a:chExt cx="609480" cy="609480"/>
            </a:xfrm>
          </p:grpSpPr>
          <p:sp>
            <p:nvSpPr>
              <p:cNvPr id="145" name=""/>
              <p:cNvSpPr/>
              <p:nvPr/>
            </p:nvSpPr>
            <p:spPr>
              <a:xfrm>
                <a:off x="8374320" y="548640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471160" y="551556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rot="1800000">
              <a:off x="7764120" y="541008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 rot="19800000">
              <a:off x="7764120" y="487656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201840" y="327600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50%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1840" y="419040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50%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96080" y="1371600"/>
            <a:ext cx="1005120" cy="2013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F067-905F-48F9-ADC3-D0B38B156FEB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81480" y="1981080"/>
            <a:ext cx="3886200" cy="472464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1523880"/>
            <a:ext cx="3886200" cy="4572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3645000"/>
          <a:ext cx="2895840" cy="252720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" descr=""/>
          <p:cNvPicPr/>
          <p:nvPr/>
        </p:nvPicPr>
        <p:blipFill>
          <a:blip r:embed="rId1"/>
          <a:srcRect l="47789" t="0" r="35681" b="82803"/>
          <a:stretch/>
        </p:blipFill>
        <p:spPr>
          <a:xfrm>
            <a:off x="1859040" y="3962520"/>
            <a:ext cx="753840" cy="834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rcRect l="47789" t="0" r="35681" b="82803"/>
          <a:stretch/>
        </p:blipFill>
        <p:spPr>
          <a:xfrm>
            <a:off x="3306600" y="3962520"/>
            <a:ext cx="754200" cy="834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rcRect l="47789" t="0" r="35681" b="82803"/>
          <a:stretch/>
        </p:blipFill>
        <p:spPr>
          <a:xfrm>
            <a:off x="1859040" y="5257800"/>
            <a:ext cx="753840" cy="835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rcRect l="67543" t="0" r="16570" b="82803"/>
          <a:stretch/>
        </p:blipFill>
        <p:spPr>
          <a:xfrm>
            <a:off x="3306600" y="5257800"/>
            <a:ext cx="727200" cy="835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rcRect l="47789" t="0" r="35681" b="82803"/>
          <a:stretch/>
        </p:blipFill>
        <p:spPr>
          <a:xfrm>
            <a:off x="3330720" y="1527120"/>
            <a:ext cx="753840" cy="835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rcRect l="47789" t="0" r="35681" b="82803"/>
          <a:stretch/>
        </p:blipFill>
        <p:spPr>
          <a:xfrm>
            <a:off x="2035080" y="1527120"/>
            <a:ext cx="754200" cy="835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alculating probabil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026800" y="1371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p   x   P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982520" y="2769120"/>
            <a:ext cx="1889280" cy="889200"/>
            <a:chOff x="1982520" y="2769120"/>
            <a:chExt cx="1889280" cy="889200"/>
          </a:xfrm>
        </p:grpSpPr>
        <p:sp>
          <p:nvSpPr>
            <p:cNvPr id="165" name=""/>
            <p:cNvSpPr/>
            <p:nvPr/>
          </p:nvSpPr>
          <p:spPr>
            <a:xfrm>
              <a:off x="2058840" y="310752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40160" y="31075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82520" y="2769120"/>
              <a:ext cx="188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male / sperm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70320" y="4010040"/>
            <a:ext cx="802800" cy="1951560"/>
            <a:chOff x="670320" y="4010040"/>
            <a:chExt cx="802800" cy="1951560"/>
          </a:xfrm>
        </p:grpSpPr>
        <p:sp>
          <p:nvSpPr>
            <p:cNvPr id="169" name=""/>
            <p:cNvSpPr/>
            <p:nvPr/>
          </p:nvSpPr>
          <p:spPr>
            <a:xfrm>
              <a:off x="1037880" y="410148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38240" y="525708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200000">
              <a:off x="-90720" y="4771080"/>
              <a:ext cx="1951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female / egg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896480" y="403776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6560" y="525708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64920" y="525708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54120" y="40377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59600" y="152316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301"/>
                </a:solidFill>
                <a:latin typeface="Arial"/>
              </a:rPr>
              <a:t>sperm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86560" y="1523160"/>
            <a:ext cx="67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301"/>
                </a:solidFill>
                <a:latin typeface="Arial"/>
              </a:rPr>
              <a:t>eg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1160" y="248256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87560" y="248256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72960" y="1523160"/>
            <a:ext cx="139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301"/>
                </a:solidFill>
                <a:latin typeface="Arial"/>
              </a:rPr>
              <a:t>offsprin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63640" y="2482560"/>
            <a:ext cx="37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86520" y="248256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49800" y="248256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1/4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563800" y="2133000"/>
            <a:ext cx="3000960" cy="550800"/>
            <a:chOff x="5563800" y="2133000"/>
            <a:chExt cx="3000960" cy="550800"/>
          </a:xfrm>
        </p:grpSpPr>
        <p:sp>
          <p:nvSpPr>
            <p:cNvPr id="185" name=""/>
            <p:cNvSpPr/>
            <p:nvPr/>
          </p:nvSpPr>
          <p:spPr>
            <a:xfrm>
              <a:off x="5563800" y="213300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06440" y="213300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75000" y="2133000"/>
              <a:ext cx="68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411160" y="362556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87560" y="362556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63640" y="3625560"/>
            <a:ext cx="37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86520" y="362556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49800" y="362556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1/4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563800" y="3199680"/>
            <a:ext cx="2989440" cy="550800"/>
            <a:chOff x="5563800" y="3199680"/>
            <a:chExt cx="2989440" cy="550800"/>
          </a:xfrm>
        </p:grpSpPr>
        <p:sp>
          <p:nvSpPr>
            <p:cNvPr id="194" name=""/>
            <p:cNvSpPr/>
            <p:nvPr/>
          </p:nvSpPr>
          <p:spPr>
            <a:xfrm>
              <a:off x="5563800" y="319968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16520" y="319968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84720" y="31996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411160" y="5835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87560" y="5835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63640" y="5835240"/>
            <a:ext cx="37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86520" y="583524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49800" y="5835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1/4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573880" y="5409360"/>
            <a:ext cx="2968560" cy="550800"/>
            <a:chOff x="5573880" y="5409360"/>
            <a:chExt cx="2968560" cy="550800"/>
          </a:xfrm>
        </p:grpSpPr>
        <p:sp>
          <p:nvSpPr>
            <p:cNvPr id="203" name=""/>
            <p:cNvSpPr/>
            <p:nvPr/>
          </p:nvSpPr>
          <p:spPr>
            <a:xfrm>
              <a:off x="5573880" y="540936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16880" y="540936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95520" y="5409360"/>
              <a:ext cx="646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5411160" y="449532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87560" y="449532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63640" y="4495320"/>
            <a:ext cx="37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86520" y="44953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49800" y="449532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1/4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924680" y="4952880"/>
            <a:ext cx="53352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49800" y="499716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575320" y="4037760"/>
            <a:ext cx="2736360" cy="550800"/>
            <a:chOff x="5575320" y="4037760"/>
            <a:chExt cx="2736360" cy="550800"/>
          </a:xfrm>
        </p:grpSpPr>
        <p:sp>
          <p:nvSpPr>
            <p:cNvPr id="214" name=""/>
            <p:cNvSpPr/>
            <p:nvPr/>
          </p:nvSpPr>
          <p:spPr>
            <a:xfrm>
              <a:off x="5575320" y="403776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06440" y="403776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27720" y="4038480"/>
              <a:ext cx="1839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8FC3-B622-4BF7-AE67-DA604479D2CA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Chance that 2 or more independent events will occur together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probability that 2 coins tossed at the same time will land heads up </a:t>
            </a:r>
            <a:br>
              <a:rPr sz="3000"/>
            </a:b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probability of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p x Pp </a:t>
            </a:r>
            <a:r>
              <a:rPr b="1" lang="en-US" sz="3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pp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660066"/>
                </a:solidFill>
                <a:latin typeface="Arial"/>
              </a:rPr>
              <a:t>Rule of multiplication</a:t>
            </a:r>
            <a:endParaRPr b="1" lang="en-US" sz="3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31880" y="5028840"/>
            <a:ext cx="2869200" cy="5965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0066"/>
                </a:solidFill>
                <a:latin typeface="Arial"/>
              </a:rPr>
              <a:t>1/2 x 1/2 = 1/4</a:t>
            </a:r>
            <a:endParaRPr b="0" lang="en-US" sz="3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31880" y="3504600"/>
            <a:ext cx="2869200" cy="5965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0066"/>
                </a:solidFill>
                <a:latin typeface="Arial"/>
              </a:rPr>
              <a:t>1/2 x 1/2 = 1/4</a:t>
            </a:r>
            <a:endParaRPr b="0" lang="en-US" sz="3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38F9-C733-48E6-9E86-0473BB0FC567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alculating dihybrid probabil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Rule of multiplication also applies to dihybrid crosses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eterozygous parents —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YyR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bability of producing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yyrr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robability of producing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gamete =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/2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robability of producing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gamete =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/2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robability of producing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yr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gamete = 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/2 x 1/2 = 1/4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robability of producing a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yyrr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offspring =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/4 x 1/4 = 1/16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4A0E-407B-429E-9069-62A5C0D26E1E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400800" y="4267080"/>
            <a:ext cx="1066680" cy="198144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660066"/>
                </a:solidFill>
                <a:latin typeface="Arial"/>
              </a:rPr>
              <a:t>Rule of addition</a:t>
            </a:r>
            <a:endParaRPr b="1" lang="en-US" sz="3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Chance that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 event can occur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or more different way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sum of the separate probabilities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probability of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p x Pp </a:t>
            </a:r>
            <a:r>
              <a:rPr b="1" lang="en-US" sz="3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Pp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371600" y="3809160"/>
            <a:ext cx="3886200" cy="2439360"/>
            <a:chOff x="1371600" y="3809160"/>
            <a:chExt cx="3886200" cy="2439360"/>
          </a:xfrm>
        </p:grpSpPr>
        <p:sp>
          <p:nvSpPr>
            <p:cNvPr id="230" name=""/>
            <p:cNvSpPr/>
            <p:nvPr/>
          </p:nvSpPr>
          <p:spPr>
            <a:xfrm>
              <a:off x="1371600" y="4114800"/>
              <a:ext cx="3886200" cy="213372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71600" y="3809880"/>
              <a:ext cx="3886200" cy="45720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49720" y="3809160"/>
              <a:ext cx="101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sperm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76680" y="3809160"/>
              <a:ext cx="677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egg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01280" y="469224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1/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77680" y="469224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1/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63080" y="3809160"/>
              <a:ext cx="139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offspring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53760" y="469224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=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76640" y="469224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9920" y="469224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1/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1753920" y="4266360"/>
              <a:ext cx="2989440" cy="550800"/>
              <a:chOff x="1753920" y="4266360"/>
              <a:chExt cx="2989440" cy="550800"/>
            </a:xfrm>
          </p:grpSpPr>
          <p:sp>
            <p:nvSpPr>
              <p:cNvPr id="241" name=""/>
              <p:cNvSpPr/>
              <p:nvPr/>
            </p:nvSpPr>
            <p:spPr>
              <a:xfrm>
                <a:off x="1753920" y="426636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908080" y="426636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074840" y="426636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P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1601280" y="568296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1/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77680" y="568296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1/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53760" y="568296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=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76640" y="568296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39920" y="568296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1/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764000" y="5257080"/>
              <a:ext cx="2979360" cy="550800"/>
              <a:chOff x="1764000" y="5257080"/>
              <a:chExt cx="2979360" cy="550800"/>
            </a:xfrm>
          </p:grpSpPr>
          <p:sp>
            <p:nvSpPr>
              <p:cNvPr id="250" name=""/>
              <p:cNvSpPr/>
              <p:nvPr/>
            </p:nvSpPr>
            <p:spPr>
              <a:xfrm>
                <a:off x="1764000" y="525708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896920" y="525708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074840" y="525708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P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6401520" y="4343040"/>
            <a:ext cx="913680" cy="1709280"/>
            <a:chOff x="6401520" y="4343040"/>
            <a:chExt cx="913680" cy="1709280"/>
          </a:xfrm>
        </p:grpSpPr>
        <p:sp>
          <p:nvSpPr>
            <p:cNvPr id="254" name=""/>
            <p:cNvSpPr/>
            <p:nvPr/>
          </p:nvSpPr>
          <p:spPr>
            <a:xfrm>
              <a:off x="6651360" y="4343040"/>
              <a:ext cx="640800" cy="48996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1/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51360" y="4911480"/>
              <a:ext cx="640800" cy="48996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1/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01520" y="4952520"/>
              <a:ext cx="374400" cy="48996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51360" y="5562360"/>
              <a:ext cx="640800" cy="48996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1/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29400" y="5481720"/>
              <a:ext cx="685800" cy="0"/>
            </a:xfrm>
            <a:prstGeom prst="line">
              <a:avLst/>
            </a:prstGeom>
            <a:ln w="76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334120" y="5181480"/>
            <a:ext cx="838080" cy="381240"/>
          </a:xfrm>
          <a:custGeom>
            <a:avLst/>
            <a:gdLst>
              <a:gd name="textAreaLeft" fmla="*/ 130680 w 838080"/>
              <a:gd name="textAreaRight" fmla="*/ 733320 w 8380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5991-F84A-4019-9EA0-F1FFAF850683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i-square tes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est to see if your data support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your hypothe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mpare “observed” vs. “expected” data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s variance from expected due to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“random chance”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s there another factor influencing data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ull hypothesi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egrees of freedom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atistical significanc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AD4B-9CEE-4A8E-8783-1FE7894AD8CB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03:49:32Z</dcterms:created>
  <dc:creator>Kim Foglia</dc:creator>
  <dc:description>All Rights Reserved. Copyright 2003. WD Interactive.</dc:description>
  <cp:keywords>Education Biology Zone Kim Foglia</cp:keywords>
  <dc:language>en-US</dc:language>
  <cp:lastModifiedBy> </cp:lastModifiedBy>
  <cp:lastPrinted>2006-01-12T04:13:46Z</cp:lastPrinted>
  <dcterms:modified xsi:type="dcterms:W3CDTF">2006-11-26T17:48:18Z</dcterms:modified>
  <cp:revision>7</cp:revision>
  <dc:subject>AP &amp; Regents Biology</dc:subject>
  <dc:title>Chapter  14.   Probability &amp; Genetics</dc:title>
</cp:coreProperties>
</file>